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B357F-8C02-4F80-91FA-96336EC988A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2E40B-72BE-4B6C-8936-50AE2CAA3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6A51E-A6C7-4CC2-84C7-A688974C2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3F69-9336-4E6F-8A72-48FF3342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05333-D4EC-4787-ABEC-DCC544007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1944A-B896-4404-9FBF-814BD1BBB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0806-A728-48B4-A4FE-D368C8B34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051E0-6AAC-40E4-9B0A-AC2F94BE7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0503-6481-41C3-9BE7-3E186319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57F5-A342-4F75-AA76-A1318042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2A73-3BBF-43C7-B09D-879BA55F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07B2-1CA8-4C23-B7B6-487EE83D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11E2-4084-4C67-97F7-955B4BB8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FBE5-5A81-4BBD-AFDC-2DE886825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4AACD-3DF6-48C1-8D62-1231E61843A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E8FF5-1EA3-4402-A19D-3EF271BA0B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31520"/>
            <a:ext cx="7772400" cy="2421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SchoolHouse Printed A"/>
              </a:rPr>
              <a:t>The Effects of a Complete Balanced Literacy Program on Literacy Achievement</a:t>
            </a:r>
            <a:endParaRPr b="0" lang="en-US" sz="6600" spc="-1" strike="noStrike">
              <a:solidFill>
                <a:srgbClr val="000000"/>
              </a:solidFill>
              <a:latin typeface="Calibri"/>
            </a:endParaRPr>
          </a:p>
        </p:txBody>
      </p:sp>
      <p:sp>
        <p:nvSpPr>
          <p:cNvPr id="49" name="PlaceHolder 2"/>
          <p:cNvSpPr>
            <a:spLocks noGrp="1"/>
          </p:cNvSpPr>
          <p:nvPr>
            <p:ph type="subTitle"/>
          </p:nvPr>
        </p:nvSpPr>
        <p:spPr>
          <a:xfrm>
            <a:off x="1371600" y="3919680"/>
            <a:ext cx="6400800" cy="2131920"/>
          </a:xfrm>
          <a:prstGeom prst="rect">
            <a:avLst/>
          </a:prstGeom>
          <a:noFill/>
          <a:ln w="0">
            <a:noFill/>
          </a:ln>
        </p:spPr>
        <p:txBody>
          <a:bodyPr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ndrea Krasne</a:t>
            </a:r>
            <a:endParaRPr b="0" lang="en-US" sz="1800" spc="-1" strike="noStrike">
              <a:solidFill>
                <a:srgbClr val="000000"/>
              </a:solidFill>
              <a:latin typeface="Calibri"/>
            </a:endParaRPr>
          </a:p>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Crystal Gomez</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EDU 7201T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pplied Theory and Research I</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Dr. O’Connor-Petruso</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Fall 2010 - Midterm</a:t>
            </a:r>
            <a:endParaRPr b="0" lang="en-US" sz="18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600" spc="-1" strike="noStrike">
                <a:solidFill>
                  <a:srgbClr val="898989"/>
                </a:solidFill>
                <a:latin typeface="Calibri"/>
              </a:rPr>
              <a:t>Presentation 10/19/2010</a:t>
            </a:r>
            <a:endParaRPr b="0" lang="en-US" sz="1600" spc="-1" strike="noStrike">
              <a:solidFill>
                <a:srgbClr val="000000"/>
              </a:solidFill>
              <a:latin typeface="Calibri"/>
            </a:endParaRPr>
          </a:p>
        </p:txBody>
      </p:sp>
      <p:pic>
        <p:nvPicPr>
          <p:cNvPr id="50"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Balanced Literacy</a:t>
            </a:r>
            <a:endParaRPr b="0" lang="en-US" sz="5400" spc="-1" strike="noStrike">
              <a:solidFill>
                <a:srgbClr val="000000"/>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ers are limited in their choice of materials for instructional practice and do not receive appropriate phonics training to make a true balanced literacy program that addresses individual students needs</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Freppon &amp; Dahl, 1998; Campbell, Shaffer &amp; Rakes, 2000)</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does not support one balanced literacy instructional program that will prove effective for every student population</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Freppon &amp; Dahl, 1998)</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78"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Research Hypothesis</a:t>
            </a:r>
            <a:endParaRPr b="0" lang="en-US" sz="6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2400" spc="-1" strike="noStrike">
                <a:solidFill>
                  <a:srgbClr val="000000"/>
                </a:solidFill>
                <a:latin typeface="Calibri"/>
              </a:rPr>
              <a:t>Using a clearly defined balanced literacy program, which incorporates phonics instruction with rich text: </a:t>
            </a:r>
            <a:endParaRPr b="0" lang="en-US" sz="24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R1:  27- third grade students in PS X, an urban Manhattan based public school, over a six-week period will participate in defined lesson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R2: 28-fifth grade CTT students in PS Y, an urban Brooklyn based public school, will participate in structured lesson over a six-week period.</a:t>
            </a: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400" spc="-1" strike="noStrike">
                <a:solidFill>
                  <a:srgbClr val="000000"/>
                </a:solidFill>
                <a:latin typeface="Calibri"/>
              </a:rPr>
              <a:t>Through these intervention programs struggling students will improve their reading ability, and will be evaluated based on a Fountas and Pinnell running record and comprehensive questions to assess reading progres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1" name="Picture 3"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800" spc="-1" strike="noStrike" u="sng">
                <a:solidFill>
                  <a:srgbClr val="000000"/>
                </a:solidFill>
                <a:uFillTx/>
                <a:latin typeface="SchoolHouse Printed A"/>
              </a:rPr>
              <a:t>References</a:t>
            </a:r>
            <a:endParaRPr b="0" lang="en-US" sz="6800" spc="-1" strike="noStrike">
              <a:solidFill>
                <a:srgbClr val="000000"/>
              </a:solidFill>
              <a:latin typeface="Calibri"/>
            </a:endParaRPr>
          </a:p>
        </p:txBody>
      </p:sp>
      <p:sp>
        <p:nvSpPr>
          <p:cNvPr id="83" name="PlaceHolder 2"/>
          <p:cNvSpPr>
            <a:spLocks noGrp="1"/>
          </p:cNvSpPr>
          <p:nvPr>
            <p:ph/>
          </p:nvPr>
        </p:nvSpPr>
        <p:spPr>
          <a:xfrm>
            <a:off x="457200" y="1600200"/>
            <a:ext cx="8229600" cy="498960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runeau, B.J.  (1997).  Early childhood:  The literacy pyramid organization of reading/writing activities in a whole language classroom.  </a:t>
            </a:r>
            <a:r>
              <a:rPr b="0" i="1" lang="en-US" sz="1600" spc="-1" strike="noStrike">
                <a:solidFill>
                  <a:srgbClr val="000000"/>
                </a:solidFill>
                <a:latin typeface="Calibri"/>
              </a:rPr>
              <a:t>The Reading Teacher, 51(2), </a:t>
            </a:r>
            <a:r>
              <a:rPr b="0" lang="en-US" sz="1600" spc="-1" strike="noStrike">
                <a:solidFill>
                  <a:srgbClr val="000000"/>
                </a:solidFill>
                <a:latin typeface="Calibri"/>
              </a:rPr>
              <a:t>158-16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mpbell, P., Rakes, S., &amp; Schaffer, G.L.  (Fall, 2000).  Investigating the  status and perceived importance of explicit phonics instruction in elementary classroom teachers.  </a:t>
            </a:r>
            <a:r>
              <a:rPr b="0" i="1" lang="en-US" sz="1600" spc="-1" strike="noStrike">
                <a:solidFill>
                  <a:srgbClr val="000000"/>
                </a:solidFill>
                <a:latin typeface="Calibri"/>
              </a:rPr>
              <a:t>The Reading 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hri, L.C., et al.  (Autumn, 2001).  Systematic phonics instruction helps students learn to read: Evidence from the national reading panel’s meta-analysis. </a:t>
            </a:r>
            <a:r>
              <a:rPr b="0" i="1" lang="en-US" sz="1600" spc="-1" strike="noStrike">
                <a:solidFill>
                  <a:srgbClr val="000000"/>
                </a:solidFill>
                <a:latin typeface="Calibri"/>
              </a:rPr>
              <a:t>Review of Education Research, 71(3), </a:t>
            </a:r>
            <a:r>
              <a:rPr b="0" lang="en-US" sz="1600" spc="-1" strike="noStrike">
                <a:solidFill>
                  <a:srgbClr val="000000"/>
                </a:solidFill>
                <a:latin typeface="Calibri"/>
              </a:rPr>
              <a:t>393-447.</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ppon, P.A., &amp; Dahl, K.L.  (1998).  Balanced instruction:  Insights and considerations.  </a:t>
            </a:r>
            <a:r>
              <a:rPr b="0" i="1" lang="en-US" sz="1600" spc="-1" strike="noStrike">
                <a:solidFill>
                  <a:srgbClr val="000000"/>
                </a:solidFill>
                <a:latin typeface="Calibri"/>
              </a:rPr>
              <a:t>Reading Research Quarterly, 33(2), </a:t>
            </a:r>
            <a:r>
              <a:rPr b="0" lang="en-US" sz="1600" spc="-1" strike="noStrike">
                <a:solidFill>
                  <a:srgbClr val="000000"/>
                </a:solidFill>
                <a:latin typeface="Calibri"/>
              </a:rPr>
              <a:t>240-251.</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iffith, P.L., &amp; Mesmer, H.A.E.  (December, 2005 - January, 2006).  Everybody’s selling it: But just what is explicit, systematic phonics instruction? </a:t>
            </a:r>
            <a:r>
              <a:rPr b="0" i="1" lang="en-US" sz="1600" spc="-1" strike="noStrike">
                <a:solidFill>
                  <a:srgbClr val="000000"/>
                </a:solidFill>
                <a:latin typeface="Calibri"/>
              </a:rPr>
              <a:t>The Reading Teacher, 59(4), </a:t>
            </a:r>
            <a:r>
              <a:rPr b="0" lang="en-US" sz="1600" spc="-1" strike="noStrike">
                <a:solidFill>
                  <a:srgbClr val="000000"/>
                </a:solidFill>
                <a:latin typeface="Calibri"/>
              </a:rPr>
              <a:t>366-376.</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4" name="Picture 6"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800" spc="-1" strike="noStrike" u="sng">
                <a:solidFill>
                  <a:srgbClr val="000000"/>
                </a:solidFill>
                <a:uFillTx/>
                <a:latin typeface="SchoolHouse Printed A"/>
              </a:rPr>
              <a:t>References (Continued)</a:t>
            </a:r>
            <a:endParaRPr b="0" lang="en-US" sz="68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pp, D., &amp; Flood, J.  (May, 1997).  Point-counterpoint:  Where’s the phonics?  Making the case (again) for integrated code instruction.  </a:t>
            </a:r>
            <a:r>
              <a:rPr b="0" i="1" lang="en-US" sz="1600" spc="-1" strike="noStrike">
                <a:solidFill>
                  <a:srgbClr val="000000"/>
                </a:solidFill>
                <a:latin typeface="Calibri"/>
              </a:rPr>
              <a:t>The Reading Teacher, 50(8), </a:t>
            </a:r>
            <a:r>
              <a:rPr b="0" lang="en-US" sz="1600" spc="-1" strike="noStrike">
                <a:solidFill>
                  <a:srgbClr val="000000"/>
                </a:solidFill>
                <a:latin typeface="Calibri"/>
              </a:rPr>
              <a:t>696-70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cKenna, M.C., Robinson, R.D., &amp; Miller, J.D.  (1990).  Whole language:  A research agenda for the nineties.  Educational Researcher, 19(8), 3-6.</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ssley, M., Rankin, J., &amp; Yokoi, L.  (March, 1996).  A survey of instructional practices of primary teachers nominated as effective in promoting literacy.  The Elementary School  Journal, 96(4), 363-384.</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April, 1992).  Saying the “p” word:  Nine guidelines for exemplary phonics instruction.  The Reading Teacher, 45(8), 618-625.</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er, R.L.  (December, 1989).  The ‘great’ debate--Can Carbo and Chall   be right?  The Phi Delta Kappan, 71(4), 276-283.</a:t>
            </a:r>
            <a:endParaRPr b="0" lang="en-US" sz="1600" spc="-1" strike="noStrike">
              <a:solidFill>
                <a:srgbClr val="000000"/>
              </a:solidFill>
              <a:latin typeface="Calibri"/>
            </a:endParaRPr>
          </a:p>
        </p:txBody>
      </p:sp>
      <p:pic>
        <p:nvPicPr>
          <p:cNvPr id="87"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2723760"/>
            <a:ext cx="7772400" cy="1195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SchoolHouse Printed A"/>
              </a:rPr>
              <a:t>QUESTIONS?</a:t>
            </a:r>
            <a:endParaRPr b="0" lang="en-US" sz="7200" spc="-1" strike="noStrike">
              <a:solidFill>
                <a:srgbClr val="000000"/>
              </a:solidFill>
              <a:latin typeface="Calibri"/>
            </a:endParaRPr>
          </a:p>
        </p:txBody>
      </p:sp>
      <p:pic>
        <p:nvPicPr>
          <p:cNvPr id="89"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Table of Contents</a:t>
            </a:r>
            <a:endParaRPr b="0" lang="en-US" sz="6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Present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terature Review</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ypothes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sing Comments &amp; Ques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3"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Introduction</a:t>
            </a:r>
            <a:endParaRPr b="0" lang="en-US" sz="6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ing focus on public education and declining literacy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re failing our students because of lack of preparation and interven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line in teacher training and preparation 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ose definition of “balanced 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6"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Problem Presentation</a:t>
            </a:r>
            <a:endParaRPr b="0" lang="en-US" sz="6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With a wide variety of literacy programs available to New York City public schools and political pressure on which program is considered most effective, children are at a great disadvantage if they do not receive all the elements of an effective literacy program. </a:t>
            </a: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With that being said, we have a growing number of emergent readers in the upper grades of elementary school where the literacy programs are not providing phonics support to tighten the gap between their reading level and appropriate grade level reading. </a:t>
            </a: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5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Literature Review: Phonics</a:t>
            </a:r>
            <a:endParaRPr b="0" lang="en-US" sz="6800" spc="-1" strike="noStrike">
              <a:solidFill>
                <a:srgbClr val="000000"/>
              </a:solidFill>
              <a:latin typeface="Calibri"/>
            </a:endParaRPr>
          </a:p>
        </p:txBody>
      </p:sp>
      <p:sp>
        <p:nvSpPr>
          <p:cNvPr id="61" name=""/>
          <p:cNvSpPr txBox="1"/>
          <p:nvPr/>
        </p:nvSpPr>
        <p:spPr>
          <a:xfrm>
            <a:off x="457200" y="1417320"/>
            <a:ext cx="8229600" cy="511164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ing phonics is not the same as teaching reading, phonics is an adaptable</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ource and can be combined with varying instructional programs</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Stahl 1992, Lapp &amp; Flood 1997)</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honics is a prerequisite for good readers, teaches emergent readers to derive meaning from formation of word and  combination of letter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Freppon &amp; Dahl, 1998;  </a:t>
            </a:r>
            <a:r>
              <a:rPr b="0" lang="en-US" sz="1600" spc="-1" strike="noStrike">
                <a:solidFill>
                  <a:srgbClr val="000000"/>
                </a:solidFill>
                <a:latin typeface="Calibri"/>
              </a:rPr>
              <a:t>Griffith, P.L., &amp; Mesmer, H.A.E., 2005-2006</a:t>
            </a:r>
            <a:r>
              <a:rPr b="0" i="1" lang="en-US" sz="1600" spc="-1" strike="noStrike">
                <a:solidFill>
                  <a:srgbClr val="000000"/>
                </a:solidFill>
                <a:latin typeface="Calibri"/>
              </a:rPr>
              <a:t>)</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rding to </a:t>
            </a:r>
            <a:r>
              <a:rPr b="0" i="1" lang="en-US" sz="2000" spc="-1" strike="noStrike">
                <a:solidFill>
                  <a:srgbClr val="000000"/>
                </a:solidFill>
                <a:latin typeface="Calibri"/>
              </a:rPr>
              <a:t>Chall</a:t>
            </a:r>
            <a:r>
              <a:rPr b="0" lang="en-US" sz="2000" spc="-1" strike="noStrike">
                <a:solidFill>
                  <a:srgbClr val="000000"/>
                </a:solidFill>
                <a:latin typeface="Calibri"/>
              </a:rPr>
              <a:t>, systematic phonics instruction produced higher scores and superior skills and letter sounds in grade on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as cited in Turner, 1989;  Pressley, Rankin &amp; Yokoi, 1996)</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ystematic explicit phonics instruction is more effective then context based, or immersion strategies, and aids in pronunciation and fluency of emergent reader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Ehri, Nunes, Stahl &amp; Willows 2001)</a:t>
            </a: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62"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Literature Review: Phonics</a:t>
            </a:r>
            <a:endParaRPr b="0" lang="en-US" sz="6800" spc="-1" strike="noStrike">
              <a:solidFill>
                <a:srgbClr val="000000"/>
              </a:solidFill>
              <a:latin typeface="Calibri"/>
            </a:endParaRPr>
          </a:p>
        </p:txBody>
      </p:sp>
      <p:sp>
        <p:nvSpPr>
          <p:cNvPr id="64" name=""/>
          <p:cNvSpPr txBox="1"/>
          <p:nvPr/>
        </p:nvSpPr>
        <p:spPr>
          <a:xfrm>
            <a:off x="457200" y="1599840"/>
            <a:ext cx="8229600" cy="52578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mergent literacy should not focus on word identification because it produces poor readers with isolated reading skills</a:t>
            </a:r>
            <a:r>
              <a:rPr b="0" i="1" lang="en-US" sz="2000" spc="-1" strike="noStrike">
                <a:solidFill>
                  <a:srgbClr val="000000"/>
                </a:solidFill>
                <a:latin typeface="Calibri"/>
              </a:rPr>
              <a:t>	</a:t>
            </a:r>
            <a:r>
              <a:rPr b="0" lang="en-US" sz="2000" spc="-1" strike="noStrike">
                <a:solidFill>
                  <a:srgbClr val="000000"/>
                </a:solidFill>
                <a:latin typeface="Calibri"/>
              </a:rPr>
              <a:t>when taught in large classroom environments and ELL’s</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Turner, 1989; Freppon &amp; Dahl, 1998)</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rehension growth with phonics instruction is limited because text samples are contrived and students vocabulary base falls off after the first grad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Lapp &amp; Flood, 1997; Turner, 1989)</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ystematic phonics instruction does not provide students with opportunity to draw upon prior knowledge of oral language to help aid in the acquisition of reading skills,  many English words are not phonetically regula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1600" spc="-1" strike="noStrike">
                <a:solidFill>
                  <a:srgbClr val="000000"/>
                </a:solidFill>
                <a:latin typeface="Calibri"/>
              </a:rPr>
              <a:t>(McKenna, Robinson &amp; Miller, 1990; Lapp &amp; Flood, 199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PlaceHolder 2"/>
          <p:cNvSpPr>
            <a:spLocks noGrp="1"/>
          </p:cNvSpPr>
          <p:nvPr>
            <p:ph/>
          </p:nvPr>
        </p:nvSpPr>
        <p:spPr>
          <a:xfrm>
            <a:off x="5101920" y="1534680"/>
            <a:ext cx="4041720" cy="639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66" name="Picture 4" descr="pencils.jpg"/>
          <p:cNvPicPr/>
          <p:nvPr/>
        </p:nvPicPr>
        <p:blipFill>
          <a:blip r:embed="rId1"/>
          <a:stretch/>
        </p:blipFill>
        <p:spPr>
          <a:xfrm>
            <a:off x="14400" y="63360"/>
            <a:ext cx="9144000" cy="683424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SchoolHouse Printed A"/>
              </a:rPr>
              <a:t>Literature Review: </a:t>
            </a:r>
            <a:br>
              <a:rPr sz="4000"/>
            </a:br>
            <a:r>
              <a:rPr b="0" lang="en-US" sz="4000" spc="-1" strike="noStrike">
                <a:solidFill>
                  <a:srgbClr val="000000"/>
                </a:solidFill>
                <a:latin typeface="SchoolHouse Printed A"/>
              </a:rPr>
              <a:t>Whole Language Classrooms</a:t>
            </a:r>
            <a:endParaRPr b="0" lang="en-US" sz="4000" spc="-1" strike="noStrike">
              <a:solidFill>
                <a:srgbClr val="000000"/>
              </a:solidFill>
              <a:latin typeface="Calibri"/>
            </a:endParaRPr>
          </a:p>
        </p:txBody>
      </p:sp>
      <p:sp>
        <p:nvSpPr>
          <p:cNvPr id="68" name=""/>
          <p:cNvSpPr txBox="1"/>
          <p:nvPr/>
        </p:nvSpPr>
        <p:spPr>
          <a:xfrm>
            <a:off x="439560" y="1417680"/>
            <a:ext cx="8229600" cy="544032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llowing the outlines of the workshop model, students learn successfully learn to read while immersed in rich literature that connects reading and writing.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support whole language through rich literature immersion because students learn phonics in a meaningful manner that increased comprehension as they increase in grade level</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Pressley, Rankin &amp; Yokoi, 1996)</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arning styles can contribute to the success of whole language instruction and individual learning needs are addressed</a:t>
            </a:r>
            <a:endParaRPr b="0" lang="en-US" sz="20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ies supported Carbo’s theory that reading comprehension is advanced by intrinsic phonics instruction through the whole language approach, out performs phonics instructional groups</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a:t>
            </a:r>
            <a:br>
              <a:rPr sz="5400"/>
            </a:br>
            <a:r>
              <a:rPr b="0" lang="en-US" sz="5400" spc="-1" strike="noStrike">
                <a:solidFill>
                  <a:srgbClr val="000000"/>
                </a:solidFill>
                <a:latin typeface="SchoolHouse Printed A"/>
              </a:rPr>
              <a:t>Whole Language Classrooms</a:t>
            </a:r>
            <a:endParaRPr b="0" lang="en-US" sz="5400" spc="-1" strike="noStrike">
              <a:solidFill>
                <a:srgbClr val="000000"/>
              </a:solidFill>
              <a:latin typeface="Calibri"/>
            </a:endParaRPr>
          </a:p>
        </p:txBody>
      </p:sp>
      <p:sp>
        <p:nvSpPr>
          <p:cNvPr id="71" name=""/>
          <p:cNvSpPr txBox="1"/>
          <p:nvPr/>
        </p:nvSpPr>
        <p:spPr>
          <a:xfrm>
            <a:off x="439560" y="1811160"/>
            <a:ext cx="8229600" cy="43149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ffectiveness of whole language is difficult to assess, according to standardized tests, written passages are too short for students to use these holistic skills to derive meaning</a:t>
            </a: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ergent readers are lagging behind with phonemic awareness skills, showed deficits in word recognition and sounds of letters and blends through the middle of second grade</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p:txBody>
      </p:sp>
      <p:pic>
        <p:nvPicPr>
          <p:cNvPr id="72" name="Picture 4"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Balanced Literacy</a:t>
            </a:r>
            <a:endParaRPr b="0" lang="en-US" sz="5400" spc="-1" strike="noStrike">
              <a:solidFill>
                <a:srgbClr val="000000"/>
              </a:solidFill>
              <a:latin typeface="Calibri"/>
            </a:endParaRPr>
          </a:p>
        </p:txBody>
      </p:sp>
      <p:sp>
        <p:nvSpPr>
          <p:cNvPr id="74" name=""/>
          <p:cNvSpPr txBox="1"/>
          <p:nvPr/>
        </p:nvSpPr>
        <p:spPr>
          <a:xfrm>
            <a:off x="457200" y="1599840"/>
            <a:ext cx="8229600" cy="525780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Balanced instruction combines phonics and holistic instruction, scaffolding, personalized instruction and the use of running records, anecdotals, rubrics and portfolios to connect reading and writing in the curriculum.”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literature immersion and emphases on constructing meaning from text, students learn to effectively apply phonics and making connections to the tex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Turner, 1989; Bruneau, 1997)</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orporating phonics instruction to a literature immersion program, enable students to be exposed to rich texts, while becoming strong independent fluent readers</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Campbell, Shaffer &amp; Rakes, 2000)</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a whole-part-whole routine struggling readers are introduced to phonics to compare unknown words to known words to support decoding through the workshop model</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Freppon &amp; Dahl, 1998)</a:t>
            </a:r>
            <a:endParaRPr b="0" lang="en-US" sz="1600" spc="-1" strike="noStrike">
              <a:solidFill>
                <a:srgbClr val="000000"/>
              </a:solidFill>
              <a:latin typeface="Calibri"/>
            </a:endParaRPr>
          </a:p>
        </p:txBody>
      </p:sp>
      <p:pic>
        <p:nvPicPr>
          <p:cNvPr id="75" name="Picture 3"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14:09Z</dcterms:created>
  <dc:creator>Andrea Krasne</dc:creator>
  <dc:description/>
  <dc:language>en-US</dc:language>
  <cp:lastModifiedBy>Andrea Krasne</cp:lastModifiedBy>
  <dcterms:modified xsi:type="dcterms:W3CDTF">2010-10-19T16:35:15Z</dcterms:modified>
  <cp:revision>61</cp:revision>
  <dc:subject/>
  <dc:title>Systematic Phonics Instruction  vs.  Whole Language Classrooms</dc:title>
</cp:coreProperties>
</file>